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8.png" ContentType="image/png"/>
  <Override PartName="/ppt/media/image5.png" ContentType="image/png"/>
  <Override PartName="/ppt/media/image30.png" ContentType="image/png"/>
  <Override PartName="/ppt/media/image29.png" ContentType="image/png"/>
  <Override PartName="/ppt/media/image6.png" ContentType="image/png"/>
  <Override PartName="/ppt/media/image19.jpeg" ContentType="image/jpe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0.gif" ContentType="image/gif"/>
  <Override PartName="/ppt/media/image22.jpeg" ContentType="image/jpeg"/>
  <Override PartName="/ppt/media/image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5.gif" ContentType="image/gif"/>
  <Override PartName="/ppt/media/image18.png" ContentType="image/png"/>
  <Override PartName="/ppt/media/image20.png" ContentType="image/png"/>
  <Override PartName="/ppt/media/image21.png" ContentType="image/pn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E066-4451-4B7A-9035-51C890E2E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C156-4F57-494F-B264-E65A8A98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B15F-2FB3-488A-B8E2-90D39A1B2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9BB7-2995-4EBD-941E-D272AA779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655F-9E28-43F8-BC38-57FE1065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EC12-BB4C-4E6A-8611-AD484EEA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B4E5-93DD-4BB0-8A89-9AEC0C10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A2C2-E211-4121-9AF3-B61AD0E6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2413-84D0-4278-BA51-24DFA1FA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B0E4-EC27-43CA-B03E-0DCC51D9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F0EF-2BCB-44DE-90DA-1FD6805D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7A60-F10D-4FB7-9EBB-7027CE38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DA8C-DAD5-496C-8776-F6E000324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Intro to Biolog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1920" y="571464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ich of these molecules stores genetic inf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 rot="16200000">
            <a:off x="7031520" y="340956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↑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7" name="Picture 4" descr="phospholip purple labels"/>
          <p:cNvPicPr/>
          <p:nvPr/>
        </p:nvPicPr>
        <p:blipFill>
          <a:blip r:embed="rId1"/>
          <a:stretch/>
        </p:blipFill>
        <p:spPr>
          <a:xfrm>
            <a:off x="457200" y="304920"/>
            <a:ext cx="1104840" cy="2209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nucleotide 1P labeled"/>
          <p:cNvPicPr/>
          <p:nvPr/>
        </p:nvPicPr>
        <p:blipFill>
          <a:blip r:embed="rId2"/>
          <a:stretch/>
        </p:blipFill>
        <p:spPr>
          <a:xfrm>
            <a:off x="2743200" y="685800"/>
            <a:ext cx="2895480" cy="1360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helix6"/>
          <p:cNvPicPr/>
          <p:nvPr/>
        </p:nvPicPr>
        <p:blipFill>
          <a:blip r:embed="rId3"/>
          <a:stretch/>
        </p:blipFill>
        <p:spPr>
          <a:xfrm>
            <a:off x="5029200" y="2743200"/>
            <a:ext cx="1717560" cy="2998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aminoacidpaint"/>
          <p:cNvPicPr/>
          <p:nvPr/>
        </p:nvPicPr>
        <p:blipFill>
          <a:blip r:embed="rId4"/>
          <a:stretch/>
        </p:blipFill>
        <p:spPr>
          <a:xfrm>
            <a:off x="6095880" y="380880"/>
            <a:ext cx="2036880" cy="2024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glucose no label"/>
          <p:cNvPicPr/>
          <p:nvPr/>
        </p:nvPicPr>
        <p:blipFill>
          <a:blip r:embed="rId5"/>
          <a:stretch/>
        </p:blipFill>
        <p:spPr>
          <a:xfrm>
            <a:off x="2209680" y="3200400"/>
            <a:ext cx="1301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459720" y="1905120"/>
            <a:ext cx="84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1:2:1;   1 carbon:2 hydrogen:1 oxyge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04920" y="3429000"/>
            <a:ext cx="85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chemical formula for water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581280" y="4572000"/>
            <a:ext cx="1524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152280" y="76212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ratio of carbon, hydrogen, and oxygen atoms is seen in carbohydrate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3915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ive an example of a heterotro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996840" y="1371600"/>
            <a:ext cx="71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ny animal (including humans)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ost bacteri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82680" y="3429000"/>
            <a:ext cx="827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3 smaller particles found ins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oms are ____________, _____________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d _____________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895480" y="396252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rot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5793840" y="3914640"/>
            <a:ext cx="209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neutr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586160" y="4492800"/>
            <a:ext cx="212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electr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ame this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41280" y="5410080"/>
            <a:ext cx="7550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dehydration synthesis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Losing water to make a bon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3951720" y="609480"/>
            <a:ext cx="507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Comic Sans MS"/>
              </a:rPr>
              <a:t>http://www.usd116.org/apalla/biology/unit3/notes/3notes1.ht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Picture 6" descr="dehydration synth"/>
          <p:cNvPicPr/>
          <p:nvPr/>
        </p:nvPicPr>
        <p:blipFill>
          <a:blip r:embed="rId1"/>
          <a:stretch/>
        </p:blipFill>
        <p:spPr>
          <a:xfrm>
            <a:off x="914400" y="1066680"/>
            <a:ext cx="7162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me the 4 molecules that are important for all living th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297440" y="2104920"/>
            <a:ext cx="49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teins, carbohydrates,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ipids, nucleic acid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50440" y="4191120"/>
            <a:ext cx="827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tomic particle with a negativ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harg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666880" y="4952880"/>
            <a:ext cx="44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electr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3822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me one characteristic of 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 makes it important for living cell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457200" y="1830240"/>
            <a:ext cx="829620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ood solvent </a:t>
            </a:r>
            <a:br>
              <a:rPr sz="32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lots of substances dissolve in i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an absorb lots of heat without changing temp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   (good for homeostasi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kes hydrogen bonds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   (water molecules stick together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articipant/product in many chemical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actions (helps metabolism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6840" y="685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 orbit the nucleus of 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om at very high speeds i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fferent energy level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tons           neutrons         electrons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764280" y="533520"/>
            <a:ext cx="20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lectr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460080" y="4390920"/>
            <a:ext cx="63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kind of electric charge 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lectrons hav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4114800" y="51055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egativ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" name="Picture 6" descr="atom2"/>
          <p:cNvPicPr/>
          <p:nvPr/>
        </p:nvPicPr>
        <p:blipFill>
          <a:blip r:embed="rId1"/>
          <a:stretch/>
        </p:blipFill>
        <p:spPr>
          <a:xfrm>
            <a:off x="6400800" y="1447920"/>
            <a:ext cx="1219320" cy="118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7631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 have an uneven pattern of electric charge (more + on one side; more – on the other) are called ______________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297440" y="1828800"/>
            <a:ext cx="12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ola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28600" y="4343400"/>
            <a:ext cx="86868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 have gained or lost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lectrons so that they have an electric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rge are called  ______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886200" y="5410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460440" y="304920"/>
            <a:ext cx="34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MOLECUL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536400" y="4343400"/>
            <a:ext cx="204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ATOM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MOGLOBIN that carries oxygen in your blood, INSULIN that helps cells store sugar, and DIGESTIVE ENZYMES are all _____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teins      carbohydrates        nucleic      lipid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5106960" y="21049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tei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84720" y="4267080"/>
            <a:ext cx="68209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lucose is a _______________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tein      carbohydrate       nucleic      lipi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ac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3581280" y="426708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arbohydr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51920" y="60195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ich of these molecules is a phospholipi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 rot="18288000">
            <a:off x="1752840" y="1371240"/>
            <a:ext cx="603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↑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9" name="Picture 4" descr="phospholip purple labels"/>
          <p:cNvPicPr/>
          <p:nvPr/>
        </p:nvPicPr>
        <p:blipFill>
          <a:blip r:embed="rId1"/>
          <a:stretch/>
        </p:blipFill>
        <p:spPr>
          <a:xfrm>
            <a:off x="533520" y="380880"/>
            <a:ext cx="1104840" cy="2210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nucleotide 1P labeled"/>
          <p:cNvPicPr/>
          <p:nvPr/>
        </p:nvPicPr>
        <p:blipFill>
          <a:blip r:embed="rId2"/>
          <a:stretch/>
        </p:blipFill>
        <p:spPr>
          <a:xfrm>
            <a:off x="2743200" y="685800"/>
            <a:ext cx="2895480" cy="1360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helix6"/>
          <p:cNvPicPr/>
          <p:nvPr/>
        </p:nvPicPr>
        <p:blipFill>
          <a:blip r:embed="rId3"/>
          <a:stretch/>
        </p:blipFill>
        <p:spPr>
          <a:xfrm>
            <a:off x="5943600" y="2666880"/>
            <a:ext cx="1717560" cy="2998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aminoacidpaint"/>
          <p:cNvPicPr/>
          <p:nvPr/>
        </p:nvPicPr>
        <p:blipFill>
          <a:blip r:embed="rId4"/>
          <a:stretch/>
        </p:blipFill>
        <p:spPr>
          <a:xfrm>
            <a:off x="6095880" y="380880"/>
            <a:ext cx="2036880" cy="2024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glucose no label"/>
          <p:cNvPicPr/>
          <p:nvPr/>
        </p:nvPicPr>
        <p:blipFill>
          <a:blip r:embed="rId5"/>
          <a:stretch/>
        </p:blipFill>
        <p:spPr>
          <a:xfrm>
            <a:off x="1447920" y="3276720"/>
            <a:ext cx="1301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282600" y="838080"/>
            <a:ext cx="824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article found in the nucleus of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 atom with a positive charg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676520" y="24382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prot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5334840" y="-720"/>
            <a:ext cx="341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school.discovery.com/clipart/clip/ani-turtle.htm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35680" y="4695840"/>
            <a:ext cx="58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cale used to measure acidit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124080" y="5410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ame this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4418640" y="5181480"/>
            <a:ext cx="451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99"/>
                </a:solidFill>
                <a:latin typeface="Arial"/>
              </a:rPr>
              <a:t>http://www.usd116.org/apalla/biology/unit3/notes/images/Hydrolysis.jp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6" name="Picture 6" descr="hydrolysis of polymers"/>
          <p:cNvPicPr/>
          <p:nvPr/>
        </p:nvPicPr>
        <p:blipFill>
          <a:blip r:embed="rId1"/>
          <a:srcRect l="0" t="14188" r="0" b="0"/>
          <a:stretch/>
        </p:blipFill>
        <p:spPr>
          <a:xfrm>
            <a:off x="228600" y="990720"/>
            <a:ext cx="8915400" cy="41464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7"/>
          <p:cNvSpPr/>
          <p:nvPr/>
        </p:nvSpPr>
        <p:spPr>
          <a:xfrm>
            <a:off x="1965240" y="5415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703080" y="5546880"/>
            <a:ext cx="804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Hydrolysis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(adding water to break a bond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ich of these molecules is an amino acid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80880" y="4038480"/>
            <a:ext cx="815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ook closely! They all a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ook for the groups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n the center carbon: Amino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rboxyl,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1" name="Picture 4" descr="aminoacidpaint"/>
          <p:cNvPicPr/>
          <p:nvPr/>
        </p:nvPicPr>
        <p:blipFill>
          <a:blip r:embed="rId1"/>
          <a:stretch/>
        </p:blipFill>
        <p:spPr>
          <a:xfrm>
            <a:off x="685800" y="1371600"/>
            <a:ext cx="1828800" cy="1817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aa phe"/>
          <p:cNvPicPr/>
          <p:nvPr/>
        </p:nvPicPr>
        <p:blipFill>
          <a:blip r:embed="rId2"/>
          <a:stretch/>
        </p:blipFill>
        <p:spPr>
          <a:xfrm>
            <a:off x="3200400" y="914400"/>
            <a:ext cx="1852560" cy="2604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aa paint"/>
          <p:cNvPicPr/>
          <p:nvPr/>
        </p:nvPicPr>
        <p:blipFill>
          <a:blip r:embed="rId3"/>
          <a:stretch/>
        </p:blipFill>
        <p:spPr>
          <a:xfrm>
            <a:off x="5029200" y="838080"/>
            <a:ext cx="1782720" cy="2378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aas_4"/>
          <p:cNvPicPr/>
          <p:nvPr/>
        </p:nvPicPr>
        <p:blipFill>
          <a:blip r:embed="rId4"/>
          <a:srcRect l="3518" t="71257" r="77458" b="0"/>
          <a:stretch/>
        </p:blipFill>
        <p:spPr>
          <a:xfrm>
            <a:off x="6781680" y="1143000"/>
            <a:ext cx="2062440" cy="1832040"/>
          </a:xfrm>
          <a:prstGeom prst="rect">
            <a:avLst/>
          </a:prstGeom>
          <a:ln w="0">
            <a:noFill/>
          </a:ln>
        </p:spPr>
      </p:pic>
      <p:sp>
        <p:nvSpPr>
          <p:cNvPr id="145" name="Oval 8"/>
          <p:cNvSpPr/>
          <p:nvPr/>
        </p:nvSpPr>
        <p:spPr>
          <a:xfrm rot="259200">
            <a:off x="151920" y="1676160"/>
            <a:ext cx="1265400" cy="113976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Oval 9"/>
          <p:cNvSpPr/>
          <p:nvPr/>
        </p:nvSpPr>
        <p:spPr>
          <a:xfrm rot="259200">
            <a:off x="2742840" y="1143000"/>
            <a:ext cx="990720" cy="114300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Oval 10"/>
          <p:cNvSpPr/>
          <p:nvPr/>
        </p:nvSpPr>
        <p:spPr>
          <a:xfrm rot="259200">
            <a:off x="5438880" y="2133360"/>
            <a:ext cx="1066680" cy="91440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Oval 11"/>
          <p:cNvSpPr/>
          <p:nvPr/>
        </p:nvSpPr>
        <p:spPr>
          <a:xfrm rot="259200">
            <a:off x="6794640" y="1534680"/>
            <a:ext cx="761760" cy="129564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9" name="Group 12"/>
          <p:cNvGrpSpPr/>
          <p:nvPr/>
        </p:nvGrpSpPr>
        <p:grpSpPr>
          <a:xfrm>
            <a:off x="1676520" y="762120"/>
            <a:ext cx="6858000" cy="2057400"/>
            <a:chOff x="1676520" y="762120"/>
            <a:chExt cx="6858000" cy="2057400"/>
          </a:xfrm>
        </p:grpSpPr>
        <p:sp>
          <p:nvSpPr>
            <p:cNvPr id="150" name="Oval 13"/>
            <p:cNvSpPr/>
            <p:nvPr/>
          </p:nvSpPr>
          <p:spPr>
            <a:xfrm>
              <a:off x="3809880" y="990720"/>
              <a:ext cx="990720" cy="6858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Oval 14"/>
            <p:cNvSpPr/>
            <p:nvPr/>
          </p:nvSpPr>
          <p:spPr>
            <a:xfrm>
              <a:off x="1676520" y="1371600"/>
              <a:ext cx="1066680" cy="1447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Oval 15"/>
            <p:cNvSpPr/>
            <p:nvPr/>
          </p:nvSpPr>
          <p:spPr>
            <a:xfrm>
              <a:off x="5562720" y="762120"/>
              <a:ext cx="1066680" cy="10666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Oval 16"/>
            <p:cNvSpPr/>
            <p:nvPr/>
          </p:nvSpPr>
          <p:spPr>
            <a:xfrm>
              <a:off x="7238880" y="990720"/>
              <a:ext cx="1295640" cy="761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990720" y="1600200"/>
            <a:ext cx="7848360" cy="1981080"/>
            <a:chOff x="990720" y="1600200"/>
            <a:chExt cx="7848360" cy="1981080"/>
          </a:xfrm>
        </p:grpSpPr>
        <p:sp>
          <p:nvSpPr>
            <p:cNvPr id="155" name="Oval 18"/>
            <p:cNvSpPr/>
            <p:nvPr/>
          </p:nvSpPr>
          <p:spPr>
            <a:xfrm>
              <a:off x="990720" y="2590920"/>
              <a:ext cx="1218960" cy="761760"/>
            </a:xfrm>
            <a:prstGeom prst="ellipse">
              <a:avLst/>
            </a:prstGeom>
            <a:noFill/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Oval 19"/>
            <p:cNvSpPr/>
            <p:nvPr/>
          </p:nvSpPr>
          <p:spPr>
            <a:xfrm>
              <a:off x="3429000" y="1981080"/>
              <a:ext cx="1219320" cy="1600200"/>
            </a:xfrm>
            <a:prstGeom prst="ellipse">
              <a:avLst/>
            </a:prstGeom>
            <a:noFill/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Oval 20"/>
            <p:cNvSpPr/>
            <p:nvPr/>
          </p:nvSpPr>
          <p:spPr>
            <a:xfrm>
              <a:off x="5029200" y="1600200"/>
              <a:ext cx="609480" cy="762120"/>
            </a:xfrm>
            <a:prstGeom prst="ellipse">
              <a:avLst/>
            </a:prstGeom>
            <a:noFill/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7772400" y="1752480"/>
              <a:ext cx="1066680" cy="1600200"/>
            </a:xfrm>
            <a:prstGeom prst="ellipse">
              <a:avLst/>
            </a:prstGeom>
            <a:noFill/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0" y="152280"/>
            <a:ext cx="876312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ich of the following is TRU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ple sugars are made of polysaccharides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 molecules are made of nucleotid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ino acids are made of protei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ycogen, starch, and cellulose are made of glucos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90720" y="4648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  Proteins are made of amino aci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40480" y="1295280"/>
            <a:ext cx="789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  Simple sugars are monosaccharides.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olysaccharides are complex carbo</a:t>
            </a:r>
            <a:r>
              <a:rPr b="1" lang="ja-JP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 made of many suga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993960" y="312408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374840" y="586728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polymerization, complex molecules are formed by the joining together of 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macromolec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. carbohydr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. polym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. monom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223280" y="1295280"/>
            <a:ext cx="308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. monome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51920" y="60195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ich of these molecules is a nucleotid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4192560" y="205740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↑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4" descr="phospholip purple labels"/>
          <p:cNvPicPr/>
          <p:nvPr/>
        </p:nvPicPr>
        <p:blipFill>
          <a:blip r:embed="rId1"/>
          <a:stretch/>
        </p:blipFill>
        <p:spPr>
          <a:xfrm>
            <a:off x="457200" y="304920"/>
            <a:ext cx="1104840" cy="2209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nucleotide 1P labeled"/>
          <p:cNvPicPr/>
          <p:nvPr/>
        </p:nvPicPr>
        <p:blipFill>
          <a:blip r:embed="rId2"/>
          <a:stretch/>
        </p:blipFill>
        <p:spPr>
          <a:xfrm>
            <a:off x="2743200" y="685800"/>
            <a:ext cx="2895480" cy="1360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helix6"/>
          <p:cNvPicPr/>
          <p:nvPr/>
        </p:nvPicPr>
        <p:blipFill>
          <a:blip r:embed="rId3"/>
          <a:stretch/>
        </p:blipFill>
        <p:spPr>
          <a:xfrm>
            <a:off x="5943600" y="2666880"/>
            <a:ext cx="1717560" cy="2998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aminoacidpaint"/>
          <p:cNvPicPr/>
          <p:nvPr/>
        </p:nvPicPr>
        <p:blipFill>
          <a:blip r:embed="rId4"/>
          <a:stretch/>
        </p:blipFill>
        <p:spPr>
          <a:xfrm>
            <a:off x="6095880" y="380880"/>
            <a:ext cx="2036880" cy="2024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glucose no label"/>
          <p:cNvPicPr/>
          <p:nvPr/>
        </p:nvPicPr>
        <p:blipFill>
          <a:blip r:embed="rId5"/>
          <a:stretch/>
        </p:blipFill>
        <p:spPr>
          <a:xfrm>
            <a:off x="1447920" y="3276720"/>
            <a:ext cx="1301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ive a function for nucleic acids in ce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914400" y="9907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tore genetic info (DNA)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transfer info from DNA to cell (RNA)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tein synthesis (RNA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304920" y="3200400"/>
            <a:ext cx="8686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many different amino acids a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ed by all living things to make proteins?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3735000" y="47242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ubunits that make nucleic acids are called _____________</a:t>
            </a: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ino acids         carbohydrates      nucleotides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3278880" y="1066680"/>
            <a:ext cx="260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nucleotid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307080" y="3247920"/>
            <a:ext cx="63010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lucose, sucrose, glycogen, an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rch are all examples of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__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685800" y="44197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arbohydrat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 is an important atom to living things because it can form bonds with 4 other atoms at once to make chains, rings, and many different kinds of molecul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1221480" y="457200"/>
            <a:ext cx="184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arb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690840" y="3635280"/>
            <a:ext cx="781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4 of the 6 atoms importa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making molecules used in cell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609480" y="5029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arbon, nitrogen, hydrogen, oxygen, sulfur, OR phosphoru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ouble stranded nucleic acid molec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taining A, T, C, G nitrogen b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nd in chromosomes that st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enetic information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5108400" y="2209680"/>
            <a:ext cx="127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N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304920" y="4648320"/>
            <a:ext cx="8534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cromolecule made by joining MANY sugar molecules together in a chai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2286000" y="59436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olysacchar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4876560" y="4571280"/>
            <a:ext cx="342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web.mit.edu/esgbio/www/lm/sugars/sugars.htm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7" descr="amylose"/>
          <p:cNvPicPr/>
          <p:nvPr/>
        </p:nvPicPr>
        <p:blipFill>
          <a:blip r:embed="rId1"/>
          <a:srcRect l="0" t="0" r="0" b="30950"/>
          <a:stretch/>
        </p:blipFill>
        <p:spPr>
          <a:xfrm>
            <a:off x="4572000" y="3352680"/>
            <a:ext cx="43178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ino acid subunits join tog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make 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pids       carbohydrates            nucleic       protei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2820960" y="111456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tei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302040" y="3095640"/>
            <a:ext cx="8181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enine, Thymine, Cytosine,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uanine, and Uracil are used to mak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ysaccharides      amino acids           nucleotides            lipi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685800" y="41911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ucleotid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1920" y="571464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ich of these molecules could be used to make glycogen, starch, or cellulos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 rot="5400000">
            <a:off x="991440" y="342864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↑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4" descr="phospholip purple labels"/>
          <p:cNvPicPr/>
          <p:nvPr/>
        </p:nvPicPr>
        <p:blipFill>
          <a:blip r:embed="rId1"/>
          <a:stretch/>
        </p:blipFill>
        <p:spPr>
          <a:xfrm>
            <a:off x="457200" y="304920"/>
            <a:ext cx="1104840" cy="2209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nucleotide 1P labeled"/>
          <p:cNvPicPr/>
          <p:nvPr/>
        </p:nvPicPr>
        <p:blipFill>
          <a:blip r:embed="rId2"/>
          <a:stretch/>
        </p:blipFill>
        <p:spPr>
          <a:xfrm>
            <a:off x="2743200" y="685800"/>
            <a:ext cx="2895480" cy="1360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elix6"/>
          <p:cNvPicPr/>
          <p:nvPr/>
        </p:nvPicPr>
        <p:blipFill>
          <a:blip r:embed="rId3"/>
          <a:stretch/>
        </p:blipFill>
        <p:spPr>
          <a:xfrm>
            <a:off x="5029200" y="2743200"/>
            <a:ext cx="1717560" cy="2998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aminoacidpaint"/>
          <p:cNvPicPr/>
          <p:nvPr/>
        </p:nvPicPr>
        <p:blipFill>
          <a:blip r:embed="rId4"/>
          <a:stretch/>
        </p:blipFill>
        <p:spPr>
          <a:xfrm>
            <a:off x="6095880" y="380880"/>
            <a:ext cx="2036880" cy="2024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glucose no label"/>
          <p:cNvPicPr/>
          <p:nvPr/>
        </p:nvPicPr>
        <p:blipFill>
          <a:blip r:embed="rId5"/>
          <a:stretch/>
        </p:blipFill>
        <p:spPr>
          <a:xfrm>
            <a:off x="2209680" y="3200400"/>
            <a:ext cx="1301760" cy="1752480"/>
          </a:xfrm>
          <a:prstGeom prst="rect">
            <a:avLst/>
          </a:prstGeom>
          <a:ln w="0">
            <a:noFill/>
          </a:ln>
        </p:spPr>
      </p:pic>
      <p:sp>
        <p:nvSpPr>
          <p:cNvPr id="54" name="TextBox 8"/>
          <p:cNvSpPr/>
          <p:nvPr/>
        </p:nvSpPr>
        <p:spPr>
          <a:xfrm>
            <a:off x="2188440" y="2819520"/>
            <a:ext cx="13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3 of the many functions of proteins that you learned ab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304920" y="206856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ct as enzymes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ransport (Help move substances in &amp; out of cells) Help synthesize other proteins (part of ribosome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ovement (make up cytoskeleton, cilia, flagella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ct as hormones (insulin)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elp cells recognize self (glycoproteins)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ructural (make cell membrane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ight germs (antibodies)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arry oxygen in blood cells (hemoglobin)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trol blood sugar (insulin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51920" y="594324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ich of these molecules is a carbohydrat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 rot="16200000">
            <a:off x="3221640" y="363816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↑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4" descr="phospholip purple labels"/>
          <p:cNvPicPr/>
          <p:nvPr/>
        </p:nvPicPr>
        <p:blipFill>
          <a:blip r:embed="rId1"/>
          <a:stretch/>
        </p:blipFill>
        <p:spPr>
          <a:xfrm>
            <a:off x="457200" y="304920"/>
            <a:ext cx="1104840" cy="2209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nucleotide 1P labeled"/>
          <p:cNvPicPr/>
          <p:nvPr/>
        </p:nvPicPr>
        <p:blipFill>
          <a:blip r:embed="rId2"/>
          <a:stretch/>
        </p:blipFill>
        <p:spPr>
          <a:xfrm>
            <a:off x="2743200" y="685800"/>
            <a:ext cx="2895480" cy="1360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helix6"/>
          <p:cNvPicPr/>
          <p:nvPr/>
        </p:nvPicPr>
        <p:blipFill>
          <a:blip r:embed="rId3"/>
          <a:stretch/>
        </p:blipFill>
        <p:spPr>
          <a:xfrm>
            <a:off x="5943600" y="2666880"/>
            <a:ext cx="1717560" cy="29988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aminoacidpaint"/>
          <p:cNvPicPr/>
          <p:nvPr/>
        </p:nvPicPr>
        <p:blipFill>
          <a:blip r:embed="rId4"/>
          <a:stretch/>
        </p:blipFill>
        <p:spPr>
          <a:xfrm>
            <a:off x="6095880" y="380880"/>
            <a:ext cx="2036880" cy="2024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glucose no label"/>
          <p:cNvPicPr/>
          <p:nvPr/>
        </p:nvPicPr>
        <p:blipFill>
          <a:blip r:embed="rId5"/>
          <a:stretch/>
        </p:blipFill>
        <p:spPr>
          <a:xfrm>
            <a:off x="1447920" y="3276720"/>
            <a:ext cx="1301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a function of carbohydrates in cel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459000" y="1981080"/>
            <a:ext cx="833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urn for energy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tore energy for later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tructural (cellulose makes plants sturdy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ell ID (part of glycoproteins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09480" y="-360"/>
            <a:ext cx="88394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tch the building block with the molecule it makes.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teins       nucleic acids      lipids     carbohydrat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4040640" y="1981080"/>
            <a:ext cx="301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Nucleic acid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887640" y="923760"/>
            <a:ext cx="32288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4421520" y="3809880"/>
            <a:ext cx="198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rotei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Picture 6" descr="glucose molecule"/>
          <p:cNvPicPr/>
          <p:nvPr/>
        </p:nvPicPr>
        <p:blipFill>
          <a:blip r:embed="rId1"/>
          <a:stretch/>
        </p:blipFill>
        <p:spPr>
          <a:xfrm>
            <a:off x="1600200" y="4876920"/>
            <a:ext cx="1719360" cy="175248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7"/>
          <p:cNvSpPr/>
          <p:nvPr/>
        </p:nvSpPr>
        <p:spPr>
          <a:xfrm>
            <a:off x="4253760" y="5559480"/>
            <a:ext cx="345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arbohydrat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Picture 8" descr="aminoacidpaint"/>
          <p:cNvPicPr/>
          <p:nvPr/>
        </p:nvPicPr>
        <p:blipFill>
          <a:blip r:embed="rId2"/>
          <a:stretch/>
        </p:blipFill>
        <p:spPr>
          <a:xfrm>
            <a:off x="1371600" y="2819520"/>
            <a:ext cx="1981080" cy="19684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nucleotide flip"/>
          <p:cNvPicPr/>
          <p:nvPr/>
        </p:nvPicPr>
        <p:blipFill>
          <a:blip r:embed="rId3"/>
          <a:stretch/>
        </p:blipFill>
        <p:spPr>
          <a:xfrm>
            <a:off x="304920" y="1278000"/>
            <a:ext cx="3504960" cy="138276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0"/>
          <p:cNvSpPr/>
          <p:nvPr/>
        </p:nvSpPr>
        <p:spPr>
          <a:xfrm>
            <a:off x="3201480" y="6613560"/>
            <a:ext cx="56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Glucose from: http://www.estrellamountain.edu/faculty/farabee/biobk/BioBookCHEM2.htm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5715000" y="990720"/>
            <a:ext cx="288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99"/>
                </a:solidFill>
                <a:latin typeface="Arial"/>
              </a:rPr>
              <a:t>Nucleotide and amino acid images by Riedel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0773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property of carbon allows it to form so many different kinds of molecul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616320" y="2133720"/>
            <a:ext cx="800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an join 4 other atoms at same tim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309960" y="3200400"/>
            <a:ext cx="70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are some factors that can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fluence an enzyme</a:t>
            </a:r>
            <a:r>
              <a:rPr b="1" lang="ja-JP" sz="4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 activity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2209680" y="48769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emperature &amp; p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28600" y="457200"/>
            <a:ext cx="83059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me one of the properties of water that make it important for living th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36520" y="1774800"/>
            <a:ext cx="88963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ts polar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   so it dissolves many different substa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t doesn</a:t>
            </a:r>
            <a:r>
              <a:rPr b="1" lang="ja-JP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 change temperature easi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o it helps in homeostasis (maintaining temp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t forms hydrogen bonds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o molecules stick togeth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t is an important participant/product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 many chemical reac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ll one way DNA is different from 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09960" y="1447920"/>
            <a:ext cx="86983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NA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N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ouble stranded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ingle strande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ontains A,T,C,G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ontains A,U,C,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No U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no 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ugar = deoxyribose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ugar = ribosos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tores genetic info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transfers inf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from nucleus to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ut to cel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534600" y="3505320"/>
            <a:ext cx="4658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________________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 = ________________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 = ________________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 = ________________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 = ________________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09480" y="-360"/>
            <a:ext cx="88394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me the following in the enzyme catalyzed re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1831320" y="3429000"/>
            <a:ext cx="181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enzym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753560" y="5664240"/>
            <a:ext cx="19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duc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1600200" y="51055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nyzme-substrate complex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1754280" y="4038480"/>
            <a:ext cx="231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ctive si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1755720" y="4572000"/>
            <a:ext cx="231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ubstrate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Picture 9" descr="enzyme catalyzed rxn"/>
          <p:cNvPicPr/>
          <p:nvPr/>
        </p:nvPicPr>
        <p:blipFill>
          <a:blip r:embed="rId1"/>
          <a:stretch/>
        </p:blipFill>
        <p:spPr>
          <a:xfrm>
            <a:off x="609480" y="914400"/>
            <a:ext cx="8153640" cy="24321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0"/>
          <p:cNvSpPr/>
          <p:nvPr/>
        </p:nvSpPr>
        <p:spPr>
          <a:xfrm>
            <a:off x="7773480" y="3200400"/>
            <a:ext cx="117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Image by Riedel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0773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subunits made of a nitrogen base, and sugar, and a phosphate group used to make nucleic acids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2464920" y="2141640"/>
            <a:ext cx="312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nucleotid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110160" y="3247920"/>
            <a:ext cx="831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olysaccharide used by animal cell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o store glucose for lat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1905120" y="44197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glycoge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7" name="Picture 6" descr="glycogen2"/>
          <p:cNvPicPr/>
          <p:nvPr/>
        </p:nvPicPr>
        <p:blipFill>
          <a:blip r:embed="rId1"/>
          <a:srcRect l="0" t="0" r="21997" b="40127"/>
          <a:stretch/>
        </p:blipFill>
        <p:spPr>
          <a:xfrm>
            <a:off x="6324480" y="4191120"/>
            <a:ext cx="2286000" cy="18190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4341600" y="6613560"/>
            <a:ext cx="450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99"/>
                </a:solidFill>
                <a:latin typeface="Arial"/>
              </a:rPr>
              <a:t>http://www.msu.edu/course/lbs/145/smith/s02/graphics/campbell_5.6.gif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304560" y="380520"/>
            <a:ext cx="838188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Kind of lipid made from carbon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ydrogen joined in rings instead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ains that make up cell membranes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n act as horm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182600" y="3200400"/>
            <a:ext cx="22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steroid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2512800" y="6248520"/>
            <a:ext cx="633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99"/>
                </a:solidFill>
                <a:latin typeface="Arial"/>
              </a:rPr>
              <a:t>http://</a:t>
            </a: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media.pearsoncmg.com/bc/bc_campbell_essentials_2/cipl/03/HTML/source/03-16-steroids-nl.ht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2" name="Picture 7" descr="03-16-steroids-nl"/>
          <p:cNvPicPr/>
          <p:nvPr/>
        </p:nvPicPr>
        <p:blipFill>
          <a:blip r:embed="rId1"/>
          <a:srcRect l="0" t="0" r="0" b="9321"/>
          <a:stretch/>
        </p:blipFill>
        <p:spPr>
          <a:xfrm>
            <a:off x="5105520" y="3200400"/>
            <a:ext cx="259056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152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imple sugar that cells burn to release energy is _______________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982520" y="1600200"/>
            <a:ext cx="17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glucos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80880" y="320040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ive an example of a monosacchari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838080" y="42670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lucose, galactose, fructose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ibose, deoxyribose,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51920" y="60195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ich of these molecules is a nucleic aci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"/>
          <p:cNvSpPr/>
          <p:nvPr/>
        </p:nvSpPr>
        <p:spPr>
          <a:xfrm rot="5400000">
            <a:off x="5015520" y="3428640"/>
            <a:ext cx="603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↑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5" name="Picture 4" descr="phospholip purple labels"/>
          <p:cNvPicPr/>
          <p:nvPr/>
        </p:nvPicPr>
        <p:blipFill>
          <a:blip r:embed="rId1"/>
          <a:stretch/>
        </p:blipFill>
        <p:spPr>
          <a:xfrm>
            <a:off x="457200" y="304920"/>
            <a:ext cx="1104840" cy="22096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nucleotide 1P labeled"/>
          <p:cNvPicPr/>
          <p:nvPr/>
        </p:nvPicPr>
        <p:blipFill>
          <a:blip r:embed="rId2"/>
          <a:stretch/>
        </p:blipFill>
        <p:spPr>
          <a:xfrm>
            <a:off x="2743200" y="685800"/>
            <a:ext cx="2895480" cy="1360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helix6"/>
          <p:cNvPicPr/>
          <p:nvPr/>
        </p:nvPicPr>
        <p:blipFill>
          <a:blip r:embed="rId3"/>
          <a:stretch/>
        </p:blipFill>
        <p:spPr>
          <a:xfrm>
            <a:off x="5943600" y="2666880"/>
            <a:ext cx="1717560" cy="29988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aminoacidpaint"/>
          <p:cNvPicPr/>
          <p:nvPr/>
        </p:nvPicPr>
        <p:blipFill>
          <a:blip r:embed="rId4"/>
          <a:stretch/>
        </p:blipFill>
        <p:spPr>
          <a:xfrm>
            <a:off x="6095880" y="380880"/>
            <a:ext cx="2036880" cy="2024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glucose no label"/>
          <p:cNvPicPr/>
          <p:nvPr/>
        </p:nvPicPr>
        <p:blipFill>
          <a:blip r:embed="rId5"/>
          <a:stretch/>
        </p:blipFill>
        <p:spPr>
          <a:xfrm>
            <a:off x="1447920" y="3276720"/>
            <a:ext cx="1301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bohydrate molecule like gluco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at is made from only ONE sug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lec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3173400" y="1447920"/>
            <a:ext cx="39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monosacchar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31840" y="2495520"/>
            <a:ext cx="8594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cale used to measure acid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lecule formed when a substrate bond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 the active site of an enzy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286000" y="31240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p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1894320" y="5340240"/>
            <a:ext cx="56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Enzyme-substrate comple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380880" y="304920"/>
            <a:ext cx="83822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e 3 parts of a nucleoti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#1 = __________________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#2 = __________________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#3 = __________________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523880" y="57913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hosph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7" name="Picture 4" descr="nucleotide flip blank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300852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5"/>
          <p:cNvSpPr/>
          <p:nvPr/>
        </p:nvSpPr>
        <p:spPr>
          <a:xfrm>
            <a:off x="2592000" y="1752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#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4953960" y="32004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#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6707160" y="1981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#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1677960" y="4572000"/>
            <a:ext cx="634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itrogen base (A, T, C, G, or U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1602360" y="5181480"/>
            <a:ext cx="603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gar (deoxyribose or ribos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olecule that is REALLY, REALLY BI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2294280" y="2293920"/>
            <a:ext cx="410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macromolecul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566640" y="3643200"/>
            <a:ext cx="840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imulus that comes from insi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 organis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2057400" y="51814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internal stimulu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4"/>
          <p:cNvSpPr/>
          <p:nvPr/>
        </p:nvSpPr>
        <p:spPr>
          <a:xfrm>
            <a:off x="305640" y="1114560"/>
            <a:ext cx="685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eutral particle found in th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ucleus of an ato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4648320" y="182880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neutr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354240" y="3200760"/>
            <a:ext cx="8793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olecule such as glycogen, starch, or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ellulose, made by joining many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onosaccharide (sugar) molecules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ogeth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2619360" y="4799880"/>
            <a:ext cx="398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polysacchari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8"/>
          <p:cNvSpPr/>
          <p:nvPr/>
        </p:nvSpPr>
        <p:spPr>
          <a:xfrm>
            <a:off x="321840" y="352440"/>
            <a:ext cx="549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5 carbon sugar used to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ke RN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1866600" y="1647720"/>
            <a:ext cx="159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ribos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3" name="Picture 10" descr="fig5x27b"/>
          <p:cNvPicPr/>
          <p:nvPr/>
        </p:nvPicPr>
        <p:blipFill>
          <a:blip r:embed="rId1"/>
          <a:srcRect l="55815" t="11110" r="9304" b="40000"/>
          <a:stretch/>
        </p:blipFill>
        <p:spPr>
          <a:xfrm>
            <a:off x="6019920" y="380880"/>
            <a:ext cx="1904760" cy="167652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1"/>
          <p:cNvSpPr/>
          <p:nvPr/>
        </p:nvSpPr>
        <p:spPr>
          <a:xfrm>
            <a:off x="5105520" y="0"/>
            <a:ext cx="387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99"/>
                </a:solidFill>
                <a:latin typeface="Arial"/>
              </a:rPr>
              <a:t>http://fig.cox.miami.edu/~cmallery/150/chemistry/fig5x27b.jp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228600" y="240984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ubstances produced during a chemical reaction that are found on the right side of a chemical equ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2971800" y="441972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produc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ll the chemical reactions throug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ich an organism builds up 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reaks down materials as it carries out its life process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4638240" y="2362320"/>
            <a:ext cx="32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metabolis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241920" y="3476520"/>
            <a:ext cx="69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rganism made of many cell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2438280" y="3962520"/>
            <a:ext cx="44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multicellula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65520" y="4940640"/>
            <a:ext cx="75888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olecules found in living things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at contain CARB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6003720" y="5637960"/>
            <a:ext cx="210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organic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380520" y="22824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otein that carries oxygen found in red blood ce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620360" y="144792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hemoglobi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40680" y="2514600"/>
            <a:ext cx="920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Kind of chemical reaction used by cell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o join molecules together by remov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 H and OH to make a water molecul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351720" y="4572000"/>
            <a:ext cx="474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Dehydration synthes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7" name="Picture 7" descr="pp3"/>
          <p:cNvPicPr/>
          <p:nvPr/>
        </p:nvPicPr>
        <p:blipFill>
          <a:blip r:embed="rId1"/>
          <a:stretch/>
        </p:blipFill>
        <p:spPr>
          <a:xfrm>
            <a:off x="6172200" y="4267080"/>
            <a:ext cx="2209680" cy="218448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8"/>
          <p:cNvSpPr/>
          <p:nvPr/>
        </p:nvSpPr>
        <p:spPr>
          <a:xfrm>
            <a:off x="4190040" y="6613560"/>
            <a:ext cx="450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99"/>
                </a:solidFill>
                <a:latin typeface="Arial"/>
              </a:rPr>
              <a:t>http://www.chemicalconnection.org.uk/chemistry/topics/images/pp3.jp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4"/>
          <p:cNvSpPr/>
          <p:nvPr/>
        </p:nvSpPr>
        <p:spPr>
          <a:xfrm>
            <a:off x="228600" y="1752480"/>
            <a:ext cx="1836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mall unit that can join together with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ther small units to form polym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371600" y="289548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monom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1" name="Picture 8" descr="polymerization"/>
          <p:cNvPicPr/>
          <p:nvPr/>
        </p:nvPicPr>
        <p:blipFill>
          <a:blip r:embed="rId1"/>
          <a:stretch/>
        </p:blipFill>
        <p:spPr>
          <a:xfrm>
            <a:off x="4495680" y="3276720"/>
            <a:ext cx="3733920" cy="20415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9"/>
          <p:cNvSpPr/>
          <p:nvPr/>
        </p:nvSpPr>
        <p:spPr>
          <a:xfrm>
            <a:off x="7546680" y="6400800"/>
            <a:ext cx="111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by Riedel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151920" y="571464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ich of these molecules could be used to make an RNA molecu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"/>
          <p:cNvSpPr/>
          <p:nvPr/>
        </p:nvSpPr>
        <p:spPr>
          <a:xfrm rot="2622600">
            <a:off x="3277440" y="144756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↑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5" name="Picture 4" descr="phospholip purple labels"/>
          <p:cNvPicPr/>
          <p:nvPr/>
        </p:nvPicPr>
        <p:blipFill>
          <a:blip r:embed="rId1"/>
          <a:stretch/>
        </p:blipFill>
        <p:spPr>
          <a:xfrm>
            <a:off x="457200" y="304920"/>
            <a:ext cx="1104840" cy="22096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nucleotide 1P labeled"/>
          <p:cNvPicPr/>
          <p:nvPr/>
        </p:nvPicPr>
        <p:blipFill>
          <a:blip r:embed="rId2"/>
          <a:stretch/>
        </p:blipFill>
        <p:spPr>
          <a:xfrm>
            <a:off x="2743200" y="685800"/>
            <a:ext cx="2895480" cy="13604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helix6"/>
          <p:cNvPicPr/>
          <p:nvPr/>
        </p:nvPicPr>
        <p:blipFill>
          <a:blip r:embed="rId3"/>
          <a:stretch/>
        </p:blipFill>
        <p:spPr>
          <a:xfrm>
            <a:off x="5029200" y="2743200"/>
            <a:ext cx="1717560" cy="29988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aminoacidpaint"/>
          <p:cNvPicPr/>
          <p:nvPr/>
        </p:nvPicPr>
        <p:blipFill>
          <a:blip r:embed="rId4"/>
          <a:stretch/>
        </p:blipFill>
        <p:spPr>
          <a:xfrm>
            <a:off x="6095880" y="380880"/>
            <a:ext cx="2036880" cy="20242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glucose no label"/>
          <p:cNvPicPr/>
          <p:nvPr/>
        </p:nvPicPr>
        <p:blipFill>
          <a:blip r:embed="rId5"/>
          <a:stretch/>
        </p:blipFill>
        <p:spPr>
          <a:xfrm>
            <a:off x="2209680" y="3200400"/>
            <a:ext cx="1301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86104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monosaccharide is a 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pid          nucleic acid       carbohydrate     pro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5183280" y="533520"/>
            <a:ext cx="311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arbohydra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80880" y="3200400"/>
            <a:ext cx="85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y genetic diseases result from the production of enzymes that are not shaped correctly. How could a change in an enzyme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shape cause it to work poorly or not at all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609480" y="52578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anging its shape can alter the shape of the active site so substrate doesn</a:t>
            </a:r>
            <a:r>
              <a:rPr b="1" lang="ja-JP" sz="28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 fit which affects how the enzyme wor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04560" y="380520"/>
            <a:ext cx="84582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carbohydrate molecule that cells burn to release e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2718000" y="1600200"/>
            <a:ext cx="21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glucos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380880" y="2743200"/>
            <a:ext cx="820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lace on an enzyme where the substrate attach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2666880" y="3962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Active si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4" name="Picture 9" descr="enzyme_"/>
          <p:cNvPicPr/>
          <p:nvPr/>
        </p:nvPicPr>
        <p:blipFill>
          <a:blip r:embed="rId1"/>
          <a:stretch/>
        </p:blipFill>
        <p:spPr>
          <a:xfrm>
            <a:off x="5943600" y="3809880"/>
            <a:ext cx="2590920" cy="253836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10"/>
          <p:cNvSpPr/>
          <p:nvPr/>
        </p:nvSpPr>
        <p:spPr>
          <a:xfrm>
            <a:off x="4038120" y="6400800"/>
            <a:ext cx="484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www.biologie.uni-hamburg.de/b-online/library/cat-removed/enzyme_.gif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ouble stranded nucleic acid molec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ntaining A, T, C, G nitrogen 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und in chromosomes that st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enetic informatio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5494320" y="1905120"/>
            <a:ext cx="131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DN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304920" y="4648320"/>
            <a:ext cx="853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cromolecule made by joining MANY sugar molecules together in a ch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2286000" y="594360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polysacchar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4876560" y="4571280"/>
            <a:ext cx="342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web.mit.edu/esgbio/www/lm/sugars/sugars.htm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1" name="Picture 8" descr="amylose"/>
          <p:cNvPicPr/>
          <p:nvPr/>
        </p:nvPicPr>
        <p:blipFill>
          <a:blip r:embed="rId1"/>
          <a:srcRect l="0" t="0" r="0" b="30950"/>
          <a:stretch/>
        </p:blipFill>
        <p:spPr>
          <a:xfrm>
            <a:off x="4572000" y="3352680"/>
            <a:ext cx="43178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0" y="57150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ich of these molecules is a polysaccharid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 rot="1749600">
            <a:off x="1373040" y="426672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↑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4" name="Picture 4" descr="phospholip purple labels"/>
          <p:cNvPicPr/>
          <p:nvPr/>
        </p:nvPicPr>
        <p:blipFill>
          <a:blip r:embed="rId1"/>
          <a:stretch/>
        </p:blipFill>
        <p:spPr>
          <a:xfrm>
            <a:off x="5334120" y="2743200"/>
            <a:ext cx="1104840" cy="22096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helix6"/>
          <p:cNvPicPr/>
          <p:nvPr/>
        </p:nvPicPr>
        <p:blipFill>
          <a:blip r:embed="rId2"/>
          <a:stretch/>
        </p:blipFill>
        <p:spPr>
          <a:xfrm>
            <a:off x="6781680" y="2286000"/>
            <a:ext cx="1717920" cy="29988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6" descr="Adensine triphos"/>
          <p:cNvPicPr/>
          <p:nvPr/>
        </p:nvPicPr>
        <p:blipFill>
          <a:blip r:embed="rId3"/>
          <a:stretch/>
        </p:blipFill>
        <p:spPr>
          <a:xfrm>
            <a:off x="6095880" y="609480"/>
            <a:ext cx="2438640" cy="12034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starch_yellow2"/>
          <p:cNvPicPr/>
          <p:nvPr/>
        </p:nvPicPr>
        <p:blipFill>
          <a:blip r:embed="rId4"/>
          <a:stretch/>
        </p:blipFill>
        <p:spPr>
          <a:xfrm>
            <a:off x="914400" y="2819520"/>
            <a:ext cx="3519360" cy="15462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8" descr="ppolypep chain"/>
          <p:cNvPicPr/>
          <p:nvPr/>
        </p:nvPicPr>
        <p:blipFill>
          <a:blip r:embed="rId5"/>
          <a:stretch/>
        </p:blipFill>
        <p:spPr>
          <a:xfrm>
            <a:off x="228600" y="380880"/>
            <a:ext cx="487692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nergy required to get a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hemical reaction star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747720" y="1495440"/>
            <a:ext cx="42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Activation energ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232200" y="3505320"/>
            <a:ext cx="857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ubstance that speeds up a chemical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action by decreasing the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ctivation energ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4937040" y="4677840"/>
            <a:ext cx="19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catalys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5714640" y="228600"/>
            <a:ext cx="321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99"/>
                </a:solidFill>
                <a:latin typeface="Arial"/>
              </a:rPr>
              <a:t>http://www.chuckwagondiner.com/art/matches.jp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4" name="Picture 11" descr="matches"/>
          <p:cNvPicPr/>
          <p:nvPr/>
        </p:nvPicPr>
        <p:blipFill>
          <a:blip r:embed="rId1"/>
          <a:stretch/>
        </p:blipFill>
        <p:spPr>
          <a:xfrm>
            <a:off x="6553080" y="457200"/>
            <a:ext cx="22860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0" y="2971800"/>
            <a:ext cx="9144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ttraction between oppositely charged regions of nearby molecules involving the hydrogen atoms of one molecule and the partially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egatively charg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toms in another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olec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762120" y="6156360"/>
            <a:ext cx="408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Hydrogen bond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292320" y="0"/>
            <a:ext cx="791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otein that acts as a biological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atalyst in living things to help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hemical reactions happen faster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3033720" y="1675800"/>
            <a:ext cx="214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enzym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9" name="Picture 8" descr="hydrogen bonds"/>
          <p:cNvPicPr/>
          <p:nvPr/>
        </p:nvPicPr>
        <p:blipFill>
          <a:blip r:embed="rId1"/>
          <a:stretch/>
        </p:blipFill>
        <p:spPr>
          <a:xfrm>
            <a:off x="5257800" y="4419720"/>
            <a:ext cx="3886200" cy="21492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9"/>
          <p:cNvSpPr/>
          <p:nvPr/>
        </p:nvSpPr>
        <p:spPr>
          <a:xfrm>
            <a:off x="3533400" y="6613560"/>
            <a:ext cx="557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99"/>
                </a:solidFill>
                <a:latin typeface="Arial"/>
              </a:rPr>
              <a:t>Images from: http://www.estrellamountain.edu/faculty/farabee/biobk/BioBookCHEM2.htm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51920" y="60195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ich of these molecules is an amino aci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 rot="19628400">
            <a:off x="7850160" y="182880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↑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3" name="Picture 4" descr="phospholip purple labels"/>
          <p:cNvPicPr/>
          <p:nvPr/>
        </p:nvPicPr>
        <p:blipFill>
          <a:blip r:embed="rId1"/>
          <a:stretch/>
        </p:blipFill>
        <p:spPr>
          <a:xfrm>
            <a:off x="457200" y="304920"/>
            <a:ext cx="1104840" cy="22096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5" descr="nucleotide 1P labeled"/>
          <p:cNvPicPr/>
          <p:nvPr/>
        </p:nvPicPr>
        <p:blipFill>
          <a:blip r:embed="rId2"/>
          <a:stretch/>
        </p:blipFill>
        <p:spPr>
          <a:xfrm>
            <a:off x="2743200" y="685800"/>
            <a:ext cx="2895480" cy="13604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6" descr="helix6"/>
          <p:cNvPicPr/>
          <p:nvPr/>
        </p:nvPicPr>
        <p:blipFill>
          <a:blip r:embed="rId3"/>
          <a:stretch/>
        </p:blipFill>
        <p:spPr>
          <a:xfrm>
            <a:off x="5029200" y="2743200"/>
            <a:ext cx="1717560" cy="29988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7" descr="aminoacidpaint"/>
          <p:cNvPicPr/>
          <p:nvPr/>
        </p:nvPicPr>
        <p:blipFill>
          <a:blip r:embed="rId4"/>
          <a:stretch/>
        </p:blipFill>
        <p:spPr>
          <a:xfrm>
            <a:off x="6095880" y="380880"/>
            <a:ext cx="2036880" cy="20242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glucose no label"/>
          <p:cNvPicPr/>
          <p:nvPr/>
        </p:nvPicPr>
        <p:blipFill>
          <a:blip r:embed="rId5"/>
          <a:stretch/>
        </p:blipFill>
        <p:spPr>
          <a:xfrm>
            <a:off x="2209680" y="3200400"/>
            <a:ext cx="1301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6"/>
          <p:cNvSpPr/>
          <p:nvPr/>
        </p:nvSpPr>
        <p:spPr>
          <a:xfrm>
            <a:off x="-122760" y="274680"/>
            <a:ext cx="9175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cromolecule that contains carbon,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ydrogen, oxygen, and nitrogen, made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y joining amino acid subuni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152280" y="30477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olecule with an uneven pattern of electric charges; More + on one side/ more – on the 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2055600" y="2133720"/>
            <a:ext cx="20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protei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2074320" y="5028480"/>
            <a:ext cx="150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pola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2" name="Picture 8" descr="Water Molecule"/>
          <p:cNvPicPr/>
          <p:nvPr/>
        </p:nvPicPr>
        <p:blipFill>
          <a:blip r:embed="rId1"/>
          <a:srcRect l="6526" t="19355" r="5372" b="3226"/>
          <a:stretch/>
        </p:blipFill>
        <p:spPr>
          <a:xfrm>
            <a:off x="5638680" y="4038480"/>
            <a:ext cx="2409840" cy="243864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9"/>
          <p:cNvSpPr/>
          <p:nvPr/>
        </p:nvSpPr>
        <p:spPr>
          <a:xfrm>
            <a:off x="3430440" y="6613560"/>
            <a:ext cx="553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99"/>
                </a:solidFill>
                <a:latin typeface="Arial"/>
              </a:rPr>
              <a:t>Image  from: http://www.estrellamountain.edu/faculty/farabee/biobk/BioBookCHEM2.htm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5 carbon sugar used to make D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1134720" y="1219320"/>
            <a:ext cx="32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deoxyribos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247680" y="2971800"/>
            <a:ext cx="852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 atom that has gained or lost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lectrons so it has an electric charg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2438280" y="4191120"/>
            <a:ext cx="44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79440" y="5105160"/>
            <a:ext cx="73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ubstances on the left side of a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hemical equation which reac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3845880" y="6155640"/>
            <a:ext cx="261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reacta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0" name="Picture 8" descr="fig5x27b"/>
          <p:cNvPicPr/>
          <p:nvPr/>
        </p:nvPicPr>
        <p:blipFill>
          <a:blip r:embed="rId1"/>
          <a:srcRect l="8371" t="13331" r="56748" b="37780"/>
          <a:stretch/>
        </p:blipFill>
        <p:spPr>
          <a:xfrm>
            <a:off x="6324480" y="1066680"/>
            <a:ext cx="1905120" cy="167652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9"/>
          <p:cNvSpPr/>
          <p:nvPr/>
        </p:nvSpPr>
        <p:spPr>
          <a:xfrm>
            <a:off x="4038480" y="0"/>
            <a:ext cx="463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99"/>
                </a:solidFill>
                <a:latin typeface="Arial"/>
              </a:rPr>
              <a:t>Image from: http://fig.cox.miami.edu/~cmallery/150/chemistry/fig5x27b.jp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mpound made up of carbon, hydrogen, and oxygen atoms usually in a ratio of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 C: 2 H: 1 O which is a major source of energy for the human body</a:t>
            </a:r>
            <a:br>
              <a:rPr sz="28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2591640" y="2209680"/>
            <a:ext cx="36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carbohydra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152280" y="304812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arge molecule made by join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maller monomer subunits togeth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1295280" y="4191120"/>
            <a:ext cx="44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polym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6" name="Picture 6" descr="polymerization"/>
          <p:cNvPicPr/>
          <p:nvPr/>
        </p:nvPicPr>
        <p:blipFill>
          <a:blip r:embed="rId1"/>
          <a:stretch/>
        </p:blipFill>
        <p:spPr>
          <a:xfrm>
            <a:off x="4419720" y="4572000"/>
            <a:ext cx="3733560" cy="204156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7"/>
          <p:cNvSpPr/>
          <p:nvPr/>
        </p:nvSpPr>
        <p:spPr>
          <a:xfrm>
            <a:off x="7546680" y="6400800"/>
            <a:ext cx="111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by Riedel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cromolecule made mainly of carbon and hydrogen atoms; includes fats, oils, and waxes and steroids, which is generally hydrophobi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3144960" y="1828800"/>
            <a:ext cx="129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lipi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60840" y="3276720"/>
            <a:ext cx="9306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cromolecule made of nucleotide subunit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ntaining carbon, hydrogen, oxygen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itrogen, and phosphorus which stores and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ansports information in cells and help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protein synthes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2058480" y="5790600"/>
            <a:ext cx="31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nucleic aci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57150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ich of these molecules is a protei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 rot="1749600">
            <a:off x="3430080" y="167616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↑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Picture 4" descr="phospholip purple labels"/>
          <p:cNvPicPr/>
          <p:nvPr/>
        </p:nvPicPr>
        <p:blipFill>
          <a:blip r:embed="rId1"/>
          <a:stretch/>
        </p:blipFill>
        <p:spPr>
          <a:xfrm>
            <a:off x="5334120" y="2743200"/>
            <a:ext cx="1104840" cy="2209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helix6"/>
          <p:cNvPicPr/>
          <p:nvPr/>
        </p:nvPicPr>
        <p:blipFill>
          <a:blip r:embed="rId2"/>
          <a:stretch/>
        </p:blipFill>
        <p:spPr>
          <a:xfrm>
            <a:off x="6781680" y="2286000"/>
            <a:ext cx="1717920" cy="2998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Adensine triphos"/>
          <p:cNvPicPr/>
          <p:nvPr/>
        </p:nvPicPr>
        <p:blipFill>
          <a:blip r:embed="rId3"/>
          <a:stretch/>
        </p:blipFill>
        <p:spPr>
          <a:xfrm>
            <a:off x="6095880" y="609480"/>
            <a:ext cx="2438640" cy="1203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starch_yellow2"/>
          <p:cNvPicPr/>
          <p:nvPr/>
        </p:nvPicPr>
        <p:blipFill>
          <a:blip r:embed="rId4"/>
          <a:stretch/>
        </p:blipFill>
        <p:spPr>
          <a:xfrm>
            <a:off x="1066680" y="3352680"/>
            <a:ext cx="3519720" cy="1546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ppolypep chain"/>
          <p:cNvPicPr/>
          <p:nvPr/>
        </p:nvPicPr>
        <p:blipFill>
          <a:blip r:embed="rId5"/>
          <a:stretch/>
        </p:blipFill>
        <p:spPr>
          <a:xfrm>
            <a:off x="228600" y="380880"/>
            <a:ext cx="487692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ngle stranded nucleic acid that contains the sugar ribose and the nitrogen bases adenine, guanine, cytosine, and urac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1174680" y="1752480"/>
            <a:ext cx="57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RNA (ribonucleic acid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105840" y="2971800"/>
            <a:ext cx="8404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ubunit used to make proteins made up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f a carbon atom attached t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hydrogen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carboxyl group (-COOH)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 amino group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-NH2) , and a variable R grou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368640" y="5942880"/>
            <a:ext cx="300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Amino aci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6" name="Picture 8" descr="aa paint"/>
          <p:cNvPicPr/>
          <p:nvPr/>
        </p:nvPicPr>
        <p:blipFill>
          <a:blip r:embed="rId1"/>
          <a:stretch/>
        </p:blipFill>
        <p:spPr>
          <a:xfrm>
            <a:off x="7162920" y="4038480"/>
            <a:ext cx="1638360" cy="205740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10"/>
          <p:cNvSpPr/>
          <p:nvPr/>
        </p:nvSpPr>
        <p:spPr>
          <a:xfrm>
            <a:off x="7470360" y="6248520"/>
            <a:ext cx="111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99"/>
                </a:solidFill>
                <a:latin typeface="Arial"/>
              </a:rPr>
              <a:t>Image by Riedel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olysaccharide used by PLANT ce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o store glucose for l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1202760" y="1828800"/>
            <a:ext cx="178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starc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578520" y="3580560"/>
            <a:ext cx="680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does DNA stand for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1456920" y="4282200"/>
            <a:ext cx="57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Deoxyribonucleic aci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2" name="Picture 8" descr="http://bioweb.wku.edu/courses/BIOL115/Wyatt/Biochem/Carbos/Carb_poly.gif"/>
          <p:cNvPicPr/>
          <p:nvPr/>
        </p:nvPicPr>
        <p:blipFill>
          <a:blip r:embed="rId1"/>
          <a:srcRect l="0" t="11363" r="0" b="70459"/>
          <a:stretch/>
        </p:blipFill>
        <p:spPr>
          <a:xfrm>
            <a:off x="3733920" y="1523880"/>
            <a:ext cx="5105160" cy="92880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9"/>
          <p:cNvSpPr/>
          <p:nvPr/>
        </p:nvSpPr>
        <p:spPr>
          <a:xfrm>
            <a:off x="4039920" y="2514600"/>
            <a:ext cx="484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99"/>
                </a:solidFill>
                <a:latin typeface="Arial"/>
              </a:rPr>
              <a:t>http://bioweb.wku.edu/courses/BIOL115/Wyatt/Biochem/Carbos/Carb_poly.gif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151920" y="571500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ich of these molecules is used by cell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store and transport energ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3"/>
          <p:cNvSpPr/>
          <p:nvPr/>
        </p:nvSpPr>
        <p:spPr>
          <a:xfrm rot="5215200">
            <a:off x="630000" y="432396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↑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6" name="Picture 4" descr="phospholip purple labels"/>
          <p:cNvPicPr/>
          <p:nvPr/>
        </p:nvPicPr>
        <p:blipFill>
          <a:blip r:embed="rId1"/>
          <a:stretch/>
        </p:blipFill>
        <p:spPr>
          <a:xfrm>
            <a:off x="457200" y="304920"/>
            <a:ext cx="1104840" cy="22096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5" descr="helix6"/>
          <p:cNvPicPr/>
          <p:nvPr/>
        </p:nvPicPr>
        <p:blipFill>
          <a:blip r:embed="rId2"/>
          <a:stretch/>
        </p:blipFill>
        <p:spPr>
          <a:xfrm>
            <a:off x="5562720" y="2514600"/>
            <a:ext cx="1717560" cy="29988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glucose no label"/>
          <p:cNvPicPr/>
          <p:nvPr/>
        </p:nvPicPr>
        <p:blipFill>
          <a:blip r:embed="rId3"/>
          <a:stretch/>
        </p:blipFill>
        <p:spPr>
          <a:xfrm>
            <a:off x="2743200" y="609480"/>
            <a:ext cx="1301760" cy="17528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Adensine triphos"/>
          <p:cNvPicPr/>
          <p:nvPr/>
        </p:nvPicPr>
        <p:blipFill>
          <a:blip r:embed="rId4"/>
          <a:stretch/>
        </p:blipFill>
        <p:spPr>
          <a:xfrm>
            <a:off x="762120" y="3124080"/>
            <a:ext cx="3962160" cy="19576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starch_yellow2"/>
          <p:cNvPicPr/>
          <p:nvPr/>
        </p:nvPicPr>
        <p:blipFill>
          <a:blip r:embed="rId5"/>
          <a:stretch/>
        </p:blipFill>
        <p:spPr>
          <a:xfrm>
            <a:off x="5029200" y="685800"/>
            <a:ext cx="3519360" cy="154620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9"/>
          <p:cNvSpPr/>
          <p:nvPr/>
        </p:nvSpPr>
        <p:spPr>
          <a:xfrm>
            <a:off x="2019600" y="4419720"/>
            <a:ext cx="803880" cy="307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RIBOS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e 2 kinds of nucleic acids you learned abou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377720" y="2057400"/>
            <a:ext cx="395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NA   and   RN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30760" y="3962520"/>
            <a:ext cx="809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ive an example of a polysacchari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371600" y="50292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ellulose, glycogen, starc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0773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teins that help chemical reactions happen faste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= 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831320" y="1600200"/>
            <a:ext cx="201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enzym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460080" y="2743200"/>
            <a:ext cx="72918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zymes work by ____________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activation energy required to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et a chemical reaction started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reasing        decreas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648320" y="27432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ecreas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ructural polysaccharide used to make plants stur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729440" y="1523880"/>
            <a:ext cx="240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cellulos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228600" y="2743200"/>
            <a:ext cx="85345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pecial kind of nucleotide used by cells to store the energy released from burning glucos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447920" y="5105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AT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11" descr="Adensine triphos"/>
          <p:cNvPicPr/>
          <p:nvPr/>
        </p:nvPicPr>
        <p:blipFill>
          <a:blip r:embed="rId1"/>
          <a:stretch/>
        </p:blipFill>
        <p:spPr>
          <a:xfrm>
            <a:off x="3809880" y="4413240"/>
            <a:ext cx="4953240" cy="24447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2"/>
          <p:cNvSpPr/>
          <p:nvPr/>
        </p:nvSpPr>
        <p:spPr>
          <a:xfrm>
            <a:off x="5520960" y="6095880"/>
            <a:ext cx="915120" cy="337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RIBOS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7546680" y="6248520"/>
            <a:ext cx="111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99"/>
                </a:solidFill>
                <a:latin typeface="Arial"/>
              </a:rPr>
              <a:t>Image by Riedel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1:49:56Z</dcterms:created>
  <dc:creator>kriedell</dc:creator>
  <dc:description/>
  <dc:language>en-US</dc:language>
  <cp:lastModifiedBy>dzahm</cp:lastModifiedBy>
  <dcterms:modified xsi:type="dcterms:W3CDTF">2013-10-03T14:45:03Z</dcterms:modified>
  <cp:revision>81</cp:revision>
  <dc:subject/>
  <dc:title>Intro to Cell Biology Review</dc:title>
</cp:coreProperties>
</file>